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D0B3-F95C-49C5-8470-9C2776FB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D236-BA15-4ABD-9F82-BAF54E86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0073B-9225-45C2-AB9E-95A37341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5F1C2-4A1D-4A10-8212-543BCB93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5C6CE-852D-4108-B00F-BE990661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17399-4AC3-4728-BE5E-28C76208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B4508-2ADF-4BBD-900E-E08E992A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3CD71-3C1A-4ED7-8B10-F3FF5E8B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D811E-09E4-4B69-8CAA-0887D610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D4E2E-85AB-4367-8F09-954A1F5F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65126-1FF3-43DF-90BD-96AD9E2C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11D4E-0475-469D-A17F-5DB77AA7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258-768C-4E0A-833F-8774E58D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B02DF-D45C-40A2-928F-B79AD58F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92E6E-556C-4CBA-BAED-1FA6B4F6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5291A-667A-4AB7-92BD-BC6E72DB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5088C-9C6D-4C30-A3CB-6315B9FC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82E38-2822-4D3E-A996-4C7DA8F6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9368C-2072-47E7-B7C1-3CF1075E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21098-4E8F-4D71-B543-8932C042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2E935-A9B6-484D-9CF7-101F2667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1C893-6E4C-46D5-934B-5E6E3DFA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F1935-3C28-49A1-9371-865096C0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2D2-ED3F-478E-A362-8844C3EA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3D1CB-64A1-46A0-9286-E158B868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E3D2D-A632-459F-9603-4C165F57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0CBEA-7C2D-4B8B-B5F6-57207BFC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E24CC-A550-4291-8549-1DAA7ACA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1F9C6-FCD0-4A22-BCF8-03A62CDD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E94E3-9617-4F8B-8CEA-CC5F033F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34E5D-74EF-492A-B776-0F04DCE5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CDB69-41E0-4B46-80EE-81F79046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5B927-27F9-4163-A2CC-C57B0B85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19E91-E1B4-4986-8932-49C014EE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6C20-82D3-40AC-8480-4C366AA8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D6602-D9FD-4844-80AE-1D4443B8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238EC-16CD-46A9-BD43-379E079B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C2C91-321A-44F1-83DD-F787AC95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FECB1-B4BD-4F8A-B764-1FC9F4C1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4C677-366D-4011-8D3E-142BBF44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757CC-E47E-45E4-BA20-053F1A24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AE6B2-94D4-45BE-91E8-1FE35405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E09DC-91D1-4D68-B8BC-FCC972CF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C1A0C-D63C-490F-B4B5-7C1A6DFE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612E7-C128-4560-9E97-84FAEFFC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D003-82DD-4F82-950F-BF1450A2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9E7F2-EC99-4568-B1D8-CA191717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B615B-CC3A-47EF-BE9F-C5904CC0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C06AA-428C-464B-8B39-E5C47976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762E1-BBCC-4A71-B1E7-BC4CB891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FFFC5-ED25-43A0-81A4-5800C0EA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50FF9-52C8-40B2-B9FA-5AEADD66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41377A-822A-43F1-90DD-B3199647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5FC71-872E-46AC-A9F0-2562E8D1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B81FA-EEC6-4AE7-88D5-059F33E5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E93AC-FEA6-490F-80C9-E3048733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2D31-6B4E-4DB1-8D4F-D6CA6A56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5CF80-C75F-43CE-9742-B0CEC51A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C4ECE-6021-4B87-BE06-B4146198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E6EA3-8EFA-4301-92EB-3C33618E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574DD-DC52-473D-91C1-97713A3A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D4C35-1817-41C5-9E47-F37889CA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6CF0B-8E9B-4DF6-8904-3DC000B9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D95C5-04D7-441B-A2ED-A307226D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3E52B-10B6-4FAC-B47C-6548F0BA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9A67E-507D-4D54-B042-AF617F16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026FC-487E-4E91-A393-7A093F7B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EF11-5B59-41AD-B83A-7965B0FE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FABCC-C45C-47A8-BCA7-067EFACD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C27AC-9786-4D2A-BB77-C6075AA4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426FB-2E79-443C-9BE8-FFB5DA37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03248-70CE-4546-A7A9-186CE3D2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80757-C733-4A82-B706-EB635606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0BD3D-5F3E-480E-9045-3B52734D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2D1EF-CBF9-43EC-8BE6-424C4BBD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B15870-8C4D-4AE0-9900-BBF12F17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5BDE57-1936-44F1-A12D-DC0C6476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607F0A-F0A2-4483-937F-24038DC2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A648-7592-4B81-9601-10586546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4EB255-77F1-41BF-91E0-BBFBD05B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018F5-F6F4-49B7-A15C-E6D5567F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973A19-A107-4199-80BF-3393734F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74C995-777A-4046-88A0-923E01C8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8E1E7D-DE61-443B-B764-DC8F3724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C3D22F-3803-478E-B6E4-BC718742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D1FF71-C66B-4EFD-8669-F34154F3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D6FA1B-B8DA-4112-91FB-8256188A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F36352-3C1B-4162-A160-53889A7B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C9879D-557E-478B-8B34-D1182B6E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E844-1C01-4432-948B-F992CB55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C08F3A-3C68-4524-8A10-8EB9023C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9F619B-C6DB-4235-83B9-C9C9CC8E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7A91A2-A32C-42FA-929E-E66EBD97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9D0BF5-EC5B-4787-8ECC-9BD758FC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944B68-DB82-494F-9E45-388C57BE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6D5E17-90D3-40ED-BC44-BF20FD43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BC6575-3DE8-4996-BA35-D03620A3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9C89C0-0709-4BC9-B3AE-E375F1AC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2F2186-CC35-403B-A0FB-28A1A135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F76509-1F1E-4599-B1B4-BBE34241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5158-60A6-46B6-A4A0-777F1E1B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80B2A-E4FC-46C4-B612-08111DE3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DD5569-6B97-46C7-A699-C4BC45B4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95DCD3-A85B-4099-8E4A-1934C29B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D358E3-74E2-4806-8A26-AEC3F22E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6D6C8C-FB6D-4B2A-9DD0-0A219FF3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7F922-8709-4330-834B-BBB4B3F7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C9D49-D8FE-42F0-8182-ACFBC1D2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092C22-D1C2-4729-8188-2A891DE5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97BDC8-6DB8-4941-8FF6-60585822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3474AF-8E5B-4CE0-AE49-99D50AF5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C0B-B64E-4FF6-9894-0D1D4DD4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13DA-5612-4013-B0F6-7FC998FC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A17CD2-B708-4045-B272-BC39F026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FE3BF6-26B5-411A-B362-349DEA95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008C4C-C198-42ED-9670-35B64A2A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446379-7A86-4F0D-A621-B16B770E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5B63F1-B186-46F6-A3BD-59707CA9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1ACC65-46CA-4C84-ADD6-78141FB9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361ED8-CB4B-4717-8B04-03AA2D72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214B1E-373A-421B-969F-99FF3C23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46D8BA-59D6-4523-9405-676D8DA6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BD8AC5-1114-446C-A067-9675FBB6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D3DB-DFC6-4401-9C2E-DE820073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8163C9-B96E-4AAF-8A83-190E5376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8B3C9B-A8C5-44A4-93DC-90CC4E89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E0500D-47B7-4D35-AF4F-81406947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44E559-F413-4164-BC15-1073452B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523944-A62B-4BE8-896D-C0716128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7F594-0751-4A27-A56F-D5E1CDEE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517D56-239D-46F1-ADCA-18A0725A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7131CD-F51B-45C1-B82C-A0B7CD0F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671F07-6D6F-4F2E-8CAE-18721B5B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A34032-4170-45F0-944B-C72C04F5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B0C4-E2C9-48AF-80FD-9903B2CE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F1D9A2-7324-48EB-AB15-56EB6C87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15B8BE-2427-4E50-B079-AF82D9F8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183991-42B8-4961-A6CD-929C12C3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DBA922-1F3C-4F9E-86BA-A3E8F39D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A408F4-4C5C-43FC-945F-1D70DF0A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5CBF0F-89A5-487B-AC38-4FC10B37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3CED53-9A55-40F7-BCF3-C29E9037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5DBF57-FEB7-4AF8-ABC0-8316E279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78AE80-805B-4B8E-B12E-0716A0A1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85B87F-1950-49AD-81EE-7FBE2EEA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86E5-C738-4A77-876C-2F32AE77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533833-9582-4785-85C7-FA11A81C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30848D-679C-4978-8F44-73E754F0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19C291-3770-4443-B647-552389B2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03B5E3-9CC8-4B1E-885A-B07EA423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B9353A-FE6D-47FE-9455-E056A028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ABC88B-4E48-4A73-8965-BFA632C6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3CF8F1-8671-46AB-B41F-3EFC0945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679AA4-D553-480D-BA30-89373857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F3B89D-3F27-44A6-B8C0-1C91BCFD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8F310D-8A56-41DA-A568-67BBA2A8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76C0-17FA-4761-AE04-9D8690D2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F70201-19D2-4DC2-BEB7-FAAE6EB7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21062C-2973-44BC-92BA-EEB703D2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103D35-D315-4B7D-B7DF-FD1760AC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2A965A-C118-4C0C-A17C-CC966696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ACAC94-D479-440E-9FEE-9D742215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F14A08-13EF-42AB-8742-7C73C194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50DAC6-4503-466B-A08A-8763DA25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6EADBB-86AF-4E20-AD2C-34F12EF1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1726AF-4408-42BD-A797-65209309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F03169-6ED4-4F4A-B07A-38DBDDAE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5A92B-2125-4ADD-96A4-2825B64C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4E99D0-CE11-45B3-A184-3A5B1BA4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317E9C-4CCD-4BF7-A734-3A3110A0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1C0A70-29C2-4B58-866A-14591598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23139-84FC-40BD-92AF-0C0E73A0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FD288-C8C9-4182-A657-F7E4FD1F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A9591-4053-4147-B80D-EB1700F8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D08C3-55AD-4EAE-968A-1C0A0D8F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277-8853-4EF6-942B-84A0D52A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D3BB8-DD75-4DD2-8372-94BE252F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C3D34-EDB2-4D26-8259-8414BFD7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B1AE4-C288-47C9-A836-61F37D47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D280D-2F62-4DCD-A7A3-0A56D11A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5BDE7-221F-4785-B219-EB44EF8A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77AD-EDA5-4A53-AF72-1DF9AE84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EF6EA-B344-4181-8DB3-C73B1840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F47A8-1EF6-4C17-BFD3-5EE54524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7D505-6F58-477D-BE3C-D3703EE4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2DDA0-81C0-434A-89B0-0842F6F7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B6C-67D9-4EAA-A574-B128408D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70B00-EB28-406C-BE76-ACD0BD96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2419B-7F50-48D8-88C8-C8B8BF3B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5A5B8-E1A4-431C-A8E7-AA1F981B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0ECD9-DEBF-42D3-A768-DD7D050C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5995A-6170-46A0-85D5-59FA3668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3FADF-1A12-43BC-A5AB-FB3A766E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8C03B-A410-4476-A6DE-0E30B00E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577ED-27CF-423B-BF86-456271EB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122D5-2710-4943-9F45-66A84600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47FDE-B72B-4833-9D78-FED38C74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1A5-4C3F-4FCB-B628-B6B1C010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80007-77C5-49A5-9384-A3539DFE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0550F-9DFE-4695-9BC6-B357C249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E156B-874F-4D69-967C-EF15CF28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942C5-7F97-44DD-A5A2-6E17725F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1A93E-2BAA-42C7-AD35-62DF684B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EF5E6-3A50-408C-A42D-9EDCC26E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B2DC5-9934-4DD3-AF25-3EF67DA7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EDF5B-614F-43FC-8F46-C7F724E5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8B0F0-EDF2-4876-94E0-B3EC8329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70441-26A7-4C38-8DC5-D9E54200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D25-ACC5-43CB-B297-BAE50A63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AEF47-5EBF-4C4A-AED5-38B62B39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9BFB5-2142-4358-A695-BB31EA75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B4A58-A0CB-42DA-8D28-392339A6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58300-159A-4F47-8C11-09DAB8D6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543AE-F274-4DD3-BE60-537A0C7A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C3F19-382D-401F-AF80-0F5D56D3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DF1E9-2E19-45D2-854B-889436EF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28617-DF5D-486A-B6AD-E0BA1AF5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768E3-E058-4A6E-A643-235F1317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009FD-9158-4C10-BBE3-6D5ED611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FDA-1AC9-455B-898C-533D2D4A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6308A-4983-4E30-A308-9740FC34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9B62B-39BB-40C3-AE1D-45626CA2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30038-F6D3-40DD-9548-686A4F2F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EE128-4352-494F-8B07-F5CF84B0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0611E-C907-461B-A3C3-A7783F12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208C8-55A5-4ED4-AE26-75DE2167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EBBF0-B0D2-41E0-BC44-2B05CFD3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EDA6F-7ADB-4EA7-A82A-8B5E8280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03E15-570A-4B8B-8243-99537E47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62997-C4AE-4828-B6E1-C7F9A7A8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181-1BBC-46E2-A68E-84488A7D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43D5A-697C-4D52-AC26-2EF2B23A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34EC0-C59A-4A9B-94F0-478BC7BD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E3577-273A-400B-96F9-9AA7B9DD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BA013-7E3A-41C1-995F-3892D369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72A8D-D4E8-40DA-8866-8E1F6E30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2BDC3-BCF8-468B-A722-4A507C79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E613B-2CE8-4FE7-80D4-8BFD2353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98AD5-AE51-4A39-A82E-92A63FCB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EF6FC-5640-473E-A598-91315F0A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62A8E-4559-4A39-86F8-794C5AD6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07F-A4AA-4A44-8D83-AAD06531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A44FA-775C-41E0-B21B-CD68C84B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F00B1-0E94-4610-8F47-C9C2E9B8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16001-3A07-4538-A31D-91E1DAD6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1F716-8940-4C93-8CB9-69DA6C87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43D8B-71D9-4CE5-BAD0-1C689FA0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0ECDC-090F-4C0F-A19F-2BB4AB9E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A7DBE-E413-449C-B61C-F78C18F5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128D4-C88E-4ABF-AA71-16750EB2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ED99E-BD6E-4493-8432-C2D300AF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16DC3-437D-46E8-999E-7295D0A5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E012-65A7-4507-A618-E81995AAF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E13D-7D05-49E1-9AB7-30A90A7B46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3660-EA0D-4416-9549-2D52C7174C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8293-F34C-45E0-9F66-2406B45606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3EA8-F7BB-4427-9E09-EB5782149F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625D-566F-4973-9AF5-C155AE2F41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5FDF-73F1-43E9-A107-A573C736F9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FA05-990D-4F60-BB02-2B92A4BCC9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477D-08C1-4BB5-B5CB-87AC74AF7E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DE65-237F-4988-BE48-FBE934B734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DA9A-D9EB-4792-A1C0-F4CAB0AFFA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6DB5-5251-4026-8A65-AFE90E4A74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AF3B-8F43-4CA5-978C-5DA89A31C9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C6FE-344E-42B7-82C3-BBCA4C3016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53FB-DE56-45E5-B374-108639D1F7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E50A-7C63-4C97-9FDE-BEFCB3E53C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D9D9-9319-448D-A840-96D1BE6C19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DB2E-62DA-4F45-BD27-9192BA1FC2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146D-122E-4942-AD4A-34BD1F00D4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C794-769C-4BAE-9E77-1D4C74AC0E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B9BE-EF0D-4C57-83FF-A1A5E50E2A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1593-429F-49C6-A463-F5A2E49221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61E3-EB79-4898-8E70-46DF34D9DE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5F88-449E-466F-A8C8-8BBEBCD434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15A2-B945-48A9-B34C-3933E50536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FA26-6C94-4E00-AA55-F1433DD3A6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A0FC-16D8-4AD4-B539-D17FCBCB5F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E2C0-465E-4024-B1AF-6A3F1BB5C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3308-E3B7-4691-A7AE-53B02F42E2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5C12-ED68-4EBF-9342-D0C7436BBA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8AE5-5827-4627-BB94-29535ACB88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53F6-10DD-406E-93CB-716BA84A4B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DC88-F9AF-4107-8F35-56CB14E0AE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A589-1875-4074-BE9C-AC4F09275B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D714-03E6-4723-B7AC-FBF9E8EC7C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3E66-AB31-4DFC-94F8-9D2DD07829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646F-C7C2-479D-BA37-B9177578AC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C160-BD65-4CA0-89B3-630F72E04D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9091-453D-419A-833D-27E8DD72A8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1F1D-D878-44ED-B507-4BA5C2B3A3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062080" y="3176640"/>
            <a:ext cx="50198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1" descr=""/>
          <p:cNvPicPr/>
          <p:nvPr/>
        </p:nvPicPr>
        <p:blipFill>
          <a:blip r:embed="rId1"/>
          <a:stretch/>
        </p:blipFill>
        <p:spPr>
          <a:xfrm>
            <a:off x="519120" y="730080"/>
            <a:ext cx="7981920" cy="60566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5" descr=""/>
          <p:cNvPicPr/>
          <p:nvPr/>
        </p:nvPicPr>
        <p:blipFill>
          <a:blip r:embed="rId2"/>
          <a:stretch/>
        </p:blipFill>
        <p:spPr>
          <a:xfrm>
            <a:off x="519120" y="1198440"/>
            <a:ext cx="4875120" cy="6937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5" descr=""/>
          <p:cNvPicPr/>
          <p:nvPr/>
        </p:nvPicPr>
        <p:blipFill>
          <a:blip r:embed="rId3"/>
          <a:stretch/>
        </p:blipFill>
        <p:spPr>
          <a:xfrm>
            <a:off x="431640" y="1971720"/>
            <a:ext cx="4875480" cy="6937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5" descr=""/>
          <p:cNvPicPr/>
          <p:nvPr/>
        </p:nvPicPr>
        <p:blipFill>
          <a:blip r:embed="rId4"/>
          <a:stretch/>
        </p:blipFill>
        <p:spPr>
          <a:xfrm>
            <a:off x="271440" y="2816280"/>
            <a:ext cx="4875120" cy="6937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5" descr=""/>
          <p:cNvPicPr/>
          <p:nvPr/>
        </p:nvPicPr>
        <p:blipFill>
          <a:blip r:embed="rId5"/>
          <a:stretch/>
        </p:blipFill>
        <p:spPr>
          <a:xfrm>
            <a:off x="326880" y="3589200"/>
            <a:ext cx="4875480" cy="6937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5" descr=""/>
          <p:cNvPicPr/>
          <p:nvPr/>
        </p:nvPicPr>
        <p:blipFill>
          <a:blip r:embed="rId6"/>
          <a:stretch/>
        </p:blipFill>
        <p:spPr>
          <a:xfrm>
            <a:off x="436680" y="4433760"/>
            <a:ext cx="8200800" cy="6937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5" descr=""/>
          <p:cNvPicPr/>
          <p:nvPr/>
        </p:nvPicPr>
        <p:blipFill>
          <a:blip r:embed="rId7"/>
          <a:stretch/>
        </p:blipFill>
        <p:spPr>
          <a:xfrm>
            <a:off x="492120" y="5207040"/>
            <a:ext cx="8201160" cy="692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5" descr=""/>
          <p:cNvPicPr/>
          <p:nvPr/>
        </p:nvPicPr>
        <p:blipFill>
          <a:blip r:embed="rId8"/>
          <a:stretch/>
        </p:blipFill>
        <p:spPr>
          <a:xfrm>
            <a:off x="646200" y="5965920"/>
            <a:ext cx="7823160" cy="3934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5" descr=""/>
          <p:cNvPicPr/>
          <p:nvPr/>
        </p:nvPicPr>
        <p:blipFill>
          <a:blip r:embed="rId9"/>
          <a:stretch/>
        </p:blipFill>
        <p:spPr>
          <a:xfrm>
            <a:off x="630360" y="6380280"/>
            <a:ext cx="78231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1" descr=""/>
          <p:cNvPicPr/>
          <p:nvPr/>
        </p:nvPicPr>
        <p:blipFill>
          <a:blip r:embed="rId1"/>
          <a:stretch/>
        </p:blipFill>
        <p:spPr>
          <a:xfrm>
            <a:off x="318960" y="1347840"/>
            <a:ext cx="85060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Picture 1" descr=""/>
          <p:cNvPicPr/>
          <p:nvPr/>
        </p:nvPicPr>
        <p:blipFill>
          <a:blip r:embed="rId1"/>
          <a:stretch/>
        </p:blipFill>
        <p:spPr>
          <a:xfrm>
            <a:off x="504720" y="1009800"/>
            <a:ext cx="81345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Picture 1" descr=""/>
          <p:cNvPicPr/>
          <p:nvPr/>
        </p:nvPicPr>
        <p:blipFill>
          <a:blip r:embed="rId1"/>
          <a:stretch/>
        </p:blipFill>
        <p:spPr>
          <a:xfrm>
            <a:off x="504720" y="1019160"/>
            <a:ext cx="8134560" cy="54100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5" descr=""/>
          <p:cNvPicPr/>
          <p:nvPr/>
        </p:nvPicPr>
        <p:blipFill>
          <a:blip r:embed="rId2"/>
          <a:stretch/>
        </p:blipFill>
        <p:spPr>
          <a:xfrm>
            <a:off x="496800" y="1768320"/>
            <a:ext cx="8304480" cy="3924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5" descr=""/>
          <p:cNvPicPr/>
          <p:nvPr/>
        </p:nvPicPr>
        <p:blipFill>
          <a:blip r:embed="rId3"/>
          <a:stretch/>
        </p:blipFill>
        <p:spPr>
          <a:xfrm>
            <a:off x="336600" y="2181240"/>
            <a:ext cx="8304120" cy="3938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5" descr=""/>
          <p:cNvPicPr/>
          <p:nvPr/>
        </p:nvPicPr>
        <p:blipFill>
          <a:blip r:embed="rId4"/>
          <a:stretch/>
        </p:blipFill>
        <p:spPr>
          <a:xfrm>
            <a:off x="463680" y="2595600"/>
            <a:ext cx="8304120" cy="719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5" descr=""/>
          <p:cNvPicPr/>
          <p:nvPr/>
        </p:nvPicPr>
        <p:blipFill>
          <a:blip r:embed="rId5"/>
          <a:stretch/>
        </p:blipFill>
        <p:spPr>
          <a:xfrm>
            <a:off x="447840" y="3368520"/>
            <a:ext cx="8304120" cy="7192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5" descr=""/>
          <p:cNvPicPr/>
          <p:nvPr/>
        </p:nvPicPr>
        <p:blipFill>
          <a:blip r:embed="rId6"/>
          <a:stretch/>
        </p:blipFill>
        <p:spPr>
          <a:xfrm>
            <a:off x="358920" y="4141800"/>
            <a:ext cx="8304120" cy="7192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5" descr=""/>
          <p:cNvPicPr/>
          <p:nvPr/>
        </p:nvPicPr>
        <p:blipFill>
          <a:blip r:embed="rId7"/>
          <a:stretch/>
        </p:blipFill>
        <p:spPr>
          <a:xfrm>
            <a:off x="485640" y="4930920"/>
            <a:ext cx="8304480" cy="7189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5" descr=""/>
          <p:cNvPicPr/>
          <p:nvPr/>
        </p:nvPicPr>
        <p:blipFill>
          <a:blip r:embed="rId8"/>
          <a:stretch/>
        </p:blipFill>
        <p:spPr>
          <a:xfrm>
            <a:off x="419040" y="5649840"/>
            <a:ext cx="8305920" cy="3920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5" descr=""/>
          <p:cNvPicPr/>
          <p:nvPr/>
        </p:nvPicPr>
        <p:blipFill>
          <a:blip r:embed="rId9"/>
          <a:stretch/>
        </p:blipFill>
        <p:spPr>
          <a:xfrm>
            <a:off x="403200" y="6072120"/>
            <a:ext cx="830412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1" descr=""/>
          <p:cNvPicPr/>
          <p:nvPr/>
        </p:nvPicPr>
        <p:blipFill>
          <a:blip r:embed="rId1"/>
          <a:stretch/>
        </p:blipFill>
        <p:spPr>
          <a:xfrm>
            <a:off x="609480" y="1162080"/>
            <a:ext cx="7925040" cy="51246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5" descr=""/>
          <p:cNvPicPr/>
          <p:nvPr/>
        </p:nvPicPr>
        <p:blipFill>
          <a:blip r:embed="rId2"/>
          <a:stretch/>
        </p:blipFill>
        <p:spPr>
          <a:xfrm>
            <a:off x="480960" y="1131840"/>
            <a:ext cx="8304120" cy="39204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5" descr=""/>
          <p:cNvPicPr/>
          <p:nvPr/>
        </p:nvPicPr>
        <p:blipFill>
          <a:blip r:embed="rId3"/>
          <a:stretch/>
        </p:blipFill>
        <p:spPr>
          <a:xfrm>
            <a:off x="536400" y="1600200"/>
            <a:ext cx="8304480" cy="7016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5" descr=""/>
          <p:cNvPicPr/>
          <p:nvPr/>
        </p:nvPicPr>
        <p:blipFill>
          <a:blip r:embed="rId4"/>
          <a:stretch/>
        </p:blipFill>
        <p:spPr>
          <a:xfrm>
            <a:off x="590400" y="2373480"/>
            <a:ext cx="8305920" cy="7016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5" descr=""/>
          <p:cNvPicPr/>
          <p:nvPr/>
        </p:nvPicPr>
        <p:blipFill>
          <a:blip r:embed="rId5"/>
          <a:stretch/>
        </p:blipFill>
        <p:spPr>
          <a:xfrm>
            <a:off x="503280" y="3146400"/>
            <a:ext cx="8304120" cy="70164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5" descr=""/>
          <p:cNvPicPr/>
          <p:nvPr/>
        </p:nvPicPr>
        <p:blipFill>
          <a:blip r:embed="rId6"/>
          <a:stretch/>
        </p:blipFill>
        <p:spPr>
          <a:xfrm>
            <a:off x="485640" y="3935520"/>
            <a:ext cx="8305920" cy="70164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5" descr=""/>
          <p:cNvPicPr/>
          <p:nvPr/>
        </p:nvPicPr>
        <p:blipFill>
          <a:blip r:embed="rId7"/>
          <a:stretch/>
        </p:blipFill>
        <p:spPr>
          <a:xfrm>
            <a:off x="469800" y="4708440"/>
            <a:ext cx="8304480" cy="7016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5" descr=""/>
          <p:cNvPicPr/>
          <p:nvPr/>
        </p:nvPicPr>
        <p:blipFill>
          <a:blip r:embed="rId8"/>
          <a:stretch/>
        </p:blipFill>
        <p:spPr>
          <a:xfrm>
            <a:off x="453960" y="5481720"/>
            <a:ext cx="830412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Picture 1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7839000" cy="27525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5" descr=""/>
          <p:cNvPicPr/>
          <p:nvPr/>
        </p:nvPicPr>
        <p:blipFill>
          <a:blip r:embed="rId2"/>
          <a:stretch/>
        </p:blipFill>
        <p:spPr>
          <a:xfrm>
            <a:off x="347760" y="1000080"/>
            <a:ext cx="8304120" cy="7016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5" descr=""/>
          <p:cNvPicPr/>
          <p:nvPr/>
        </p:nvPicPr>
        <p:blipFill>
          <a:blip r:embed="rId3"/>
          <a:stretch/>
        </p:blipFill>
        <p:spPr>
          <a:xfrm>
            <a:off x="331920" y="1773360"/>
            <a:ext cx="8304120" cy="70164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5" descr=""/>
          <p:cNvPicPr/>
          <p:nvPr/>
        </p:nvPicPr>
        <p:blipFill>
          <a:blip r:embed="rId4"/>
          <a:stretch/>
        </p:blipFill>
        <p:spPr>
          <a:xfrm>
            <a:off x="387360" y="2546280"/>
            <a:ext cx="8304120" cy="70164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5" descr=""/>
          <p:cNvPicPr/>
          <p:nvPr/>
        </p:nvPicPr>
        <p:blipFill>
          <a:blip r:embed="rId5"/>
          <a:stretch/>
        </p:blipFill>
        <p:spPr>
          <a:xfrm>
            <a:off x="514440" y="3319560"/>
            <a:ext cx="830412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42920" y="909720"/>
            <a:ext cx="4209840" cy="37335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4829040" y="714240"/>
            <a:ext cx="4172040" cy="56484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5" descr=""/>
          <p:cNvPicPr/>
          <p:nvPr/>
        </p:nvPicPr>
        <p:blipFill>
          <a:blip r:embed="rId3"/>
          <a:stretch/>
        </p:blipFill>
        <p:spPr>
          <a:xfrm>
            <a:off x="1521000" y="2703600"/>
            <a:ext cx="1503360" cy="3078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"/>
          <p:cNvPicPr/>
          <p:nvPr/>
        </p:nvPicPr>
        <p:blipFill>
          <a:blip r:embed="rId4"/>
          <a:stretch/>
        </p:blipFill>
        <p:spPr>
          <a:xfrm>
            <a:off x="1863720" y="3044880"/>
            <a:ext cx="1501920" cy="3016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"/>
          <p:cNvPicPr/>
          <p:nvPr/>
        </p:nvPicPr>
        <p:blipFill>
          <a:blip r:embed="rId5"/>
          <a:stretch/>
        </p:blipFill>
        <p:spPr>
          <a:xfrm>
            <a:off x="1703520" y="3378240"/>
            <a:ext cx="1176120" cy="2793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5" descr=""/>
          <p:cNvPicPr/>
          <p:nvPr/>
        </p:nvPicPr>
        <p:blipFill>
          <a:blip r:embed="rId6"/>
          <a:stretch/>
        </p:blipFill>
        <p:spPr>
          <a:xfrm>
            <a:off x="201600" y="3691080"/>
            <a:ext cx="150192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"/>
          <p:cNvPicPr/>
          <p:nvPr/>
        </p:nvPicPr>
        <p:blipFill>
          <a:blip r:embed="rId1"/>
          <a:stretch/>
        </p:blipFill>
        <p:spPr>
          <a:xfrm>
            <a:off x="109440" y="857160"/>
            <a:ext cx="4248360" cy="47340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2"/>
          <a:stretch/>
        </p:blipFill>
        <p:spPr>
          <a:xfrm>
            <a:off x="4857840" y="857160"/>
            <a:ext cx="4181400" cy="25812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5" descr=""/>
          <p:cNvPicPr/>
          <p:nvPr/>
        </p:nvPicPr>
        <p:blipFill>
          <a:blip r:embed="rId3"/>
          <a:stretch/>
        </p:blipFill>
        <p:spPr>
          <a:xfrm>
            <a:off x="1563840" y="2152800"/>
            <a:ext cx="2793960" cy="3078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5" descr=""/>
          <p:cNvPicPr/>
          <p:nvPr/>
        </p:nvPicPr>
        <p:blipFill>
          <a:blip r:embed="rId4"/>
          <a:stretch/>
        </p:blipFill>
        <p:spPr>
          <a:xfrm>
            <a:off x="237960" y="2536920"/>
            <a:ext cx="4195800" cy="3078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5" descr=""/>
          <p:cNvPicPr/>
          <p:nvPr/>
        </p:nvPicPr>
        <p:blipFill>
          <a:blip r:embed="rId5"/>
          <a:stretch/>
        </p:blipFill>
        <p:spPr>
          <a:xfrm>
            <a:off x="77760" y="2863800"/>
            <a:ext cx="4419720" cy="5047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"/>
          <p:cNvPicPr/>
          <p:nvPr/>
        </p:nvPicPr>
        <p:blipFill>
          <a:blip r:embed="rId6"/>
          <a:stretch/>
        </p:blipFill>
        <p:spPr>
          <a:xfrm>
            <a:off x="61920" y="3484440"/>
            <a:ext cx="4417920" cy="5050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7"/>
          <a:stretch/>
        </p:blipFill>
        <p:spPr>
          <a:xfrm>
            <a:off x="90360" y="4041720"/>
            <a:ext cx="2795760" cy="308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5" descr=""/>
          <p:cNvPicPr/>
          <p:nvPr/>
        </p:nvPicPr>
        <p:blipFill>
          <a:blip r:embed="rId8"/>
          <a:stretch/>
        </p:blipFill>
        <p:spPr>
          <a:xfrm>
            <a:off x="44280" y="4400640"/>
            <a:ext cx="4419720" cy="5047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5" descr=""/>
          <p:cNvPicPr/>
          <p:nvPr/>
        </p:nvPicPr>
        <p:blipFill>
          <a:blip r:embed="rId9"/>
          <a:stretch/>
        </p:blipFill>
        <p:spPr>
          <a:xfrm>
            <a:off x="74520" y="4957920"/>
            <a:ext cx="4616640" cy="3078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5" descr=""/>
          <p:cNvPicPr/>
          <p:nvPr/>
        </p:nvPicPr>
        <p:blipFill>
          <a:blip r:embed="rId10"/>
          <a:stretch/>
        </p:blipFill>
        <p:spPr>
          <a:xfrm>
            <a:off x="138240" y="5299200"/>
            <a:ext cx="4616280" cy="307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5" descr=""/>
          <p:cNvPicPr/>
          <p:nvPr/>
        </p:nvPicPr>
        <p:blipFill>
          <a:blip r:embed="rId11"/>
          <a:stretch/>
        </p:blipFill>
        <p:spPr>
          <a:xfrm>
            <a:off x="6251400" y="3122640"/>
            <a:ext cx="23814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428760" y="1138320"/>
            <a:ext cx="8238960" cy="50767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5" descr=""/>
          <p:cNvPicPr/>
          <p:nvPr/>
        </p:nvPicPr>
        <p:blipFill>
          <a:blip r:embed="rId2"/>
          <a:stretch/>
        </p:blipFill>
        <p:spPr>
          <a:xfrm>
            <a:off x="8032680" y="5330880"/>
            <a:ext cx="38124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428760" y="952560"/>
            <a:ext cx="8267400" cy="56196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5" descr=""/>
          <p:cNvPicPr/>
          <p:nvPr/>
        </p:nvPicPr>
        <p:blipFill>
          <a:blip r:embed="rId2"/>
          <a:stretch/>
        </p:blipFill>
        <p:spPr>
          <a:xfrm>
            <a:off x="2610000" y="2117880"/>
            <a:ext cx="380880" cy="307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5" descr=""/>
          <p:cNvPicPr/>
          <p:nvPr/>
        </p:nvPicPr>
        <p:blipFill>
          <a:blip r:embed="rId3"/>
          <a:stretch/>
        </p:blipFill>
        <p:spPr>
          <a:xfrm>
            <a:off x="689040" y="3917880"/>
            <a:ext cx="4848120" cy="3081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5" descr=""/>
          <p:cNvPicPr/>
          <p:nvPr/>
        </p:nvPicPr>
        <p:blipFill>
          <a:blip r:embed="rId4"/>
          <a:stretch/>
        </p:blipFill>
        <p:spPr>
          <a:xfrm>
            <a:off x="528480" y="4251240"/>
            <a:ext cx="5295960" cy="3081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5" descr=""/>
          <p:cNvPicPr/>
          <p:nvPr/>
        </p:nvPicPr>
        <p:blipFill>
          <a:blip r:embed="rId5"/>
          <a:stretch/>
        </p:blipFill>
        <p:spPr>
          <a:xfrm>
            <a:off x="512640" y="4538520"/>
            <a:ext cx="5295960" cy="627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5" descr=""/>
          <p:cNvPicPr/>
          <p:nvPr/>
        </p:nvPicPr>
        <p:blipFill>
          <a:blip r:embed="rId6"/>
          <a:stretch/>
        </p:blipFill>
        <p:spPr>
          <a:xfrm>
            <a:off x="515880" y="5165640"/>
            <a:ext cx="8433000" cy="8748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5" descr=""/>
          <p:cNvPicPr/>
          <p:nvPr/>
        </p:nvPicPr>
        <p:blipFill>
          <a:blip r:embed="rId7"/>
          <a:stretch/>
        </p:blipFill>
        <p:spPr>
          <a:xfrm>
            <a:off x="630360" y="6040440"/>
            <a:ext cx="70657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428760" y="720720"/>
            <a:ext cx="8005680" cy="60753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5" descr=""/>
          <p:cNvPicPr/>
          <p:nvPr/>
        </p:nvPicPr>
        <p:blipFill>
          <a:blip r:embed="rId2"/>
          <a:stretch/>
        </p:blipFill>
        <p:spPr>
          <a:xfrm>
            <a:off x="7800840" y="1343160"/>
            <a:ext cx="381240" cy="3078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3"/>
          <a:stretch/>
        </p:blipFill>
        <p:spPr>
          <a:xfrm>
            <a:off x="2965320" y="3889440"/>
            <a:ext cx="381240" cy="3078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5" descr=""/>
          <p:cNvPicPr/>
          <p:nvPr/>
        </p:nvPicPr>
        <p:blipFill>
          <a:blip r:embed="rId4"/>
          <a:stretch/>
        </p:blipFill>
        <p:spPr>
          <a:xfrm>
            <a:off x="568440" y="5683320"/>
            <a:ext cx="4248000" cy="5475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"/>
          <p:cNvPicPr/>
          <p:nvPr/>
        </p:nvPicPr>
        <p:blipFill>
          <a:blip r:embed="rId5"/>
          <a:stretch/>
        </p:blipFill>
        <p:spPr>
          <a:xfrm>
            <a:off x="479520" y="6218280"/>
            <a:ext cx="4248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299880" y="914400"/>
            <a:ext cx="8544240" cy="58006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5" descr=""/>
          <p:cNvPicPr/>
          <p:nvPr/>
        </p:nvPicPr>
        <p:blipFill>
          <a:blip r:embed="rId2"/>
          <a:stretch/>
        </p:blipFill>
        <p:spPr>
          <a:xfrm>
            <a:off x="7994520" y="5051520"/>
            <a:ext cx="51444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"/>
          <p:cNvPicPr/>
          <p:nvPr/>
        </p:nvPicPr>
        <p:blipFill>
          <a:blip r:embed="rId1"/>
          <a:stretch/>
        </p:blipFill>
        <p:spPr>
          <a:xfrm>
            <a:off x="262080" y="785880"/>
            <a:ext cx="8619840" cy="42768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5857920" y="4714920"/>
            <a:ext cx="2857320" cy="19526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3"/>
          <a:stretch/>
        </p:blipFill>
        <p:spPr>
          <a:xfrm>
            <a:off x="785880" y="5143680"/>
            <a:ext cx="4914720" cy="1295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"/>
          <p:cNvPicPr/>
          <p:nvPr/>
        </p:nvPicPr>
        <p:blipFill>
          <a:blip r:embed="rId4"/>
          <a:stretch/>
        </p:blipFill>
        <p:spPr>
          <a:xfrm>
            <a:off x="689040" y="5214960"/>
            <a:ext cx="5168880" cy="3920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5" descr=""/>
          <p:cNvPicPr/>
          <p:nvPr/>
        </p:nvPicPr>
        <p:blipFill>
          <a:blip r:embed="rId5"/>
          <a:stretch/>
        </p:blipFill>
        <p:spPr>
          <a:xfrm>
            <a:off x="600120" y="5700600"/>
            <a:ext cx="516888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5047920" cy="9525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2" descr=""/>
          <p:cNvPicPr/>
          <p:nvPr/>
        </p:nvPicPr>
        <p:blipFill>
          <a:blip r:embed="rId2"/>
          <a:stretch/>
        </p:blipFill>
        <p:spPr>
          <a:xfrm>
            <a:off x="676440" y="1785960"/>
            <a:ext cx="7115040" cy="13050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3"/>
          <a:stretch/>
        </p:blipFill>
        <p:spPr>
          <a:xfrm>
            <a:off x="214200" y="3324240"/>
            <a:ext cx="8382240" cy="3390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5" descr=""/>
          <p:cNvPicPr/>
          <p:nvPr/>
        </p:nvPicPr>
        <p:blipFill>
          <a:blip r:embed="rId4"/>
          <a:stretch/>
        </p:blipFill>
        <p:spPr>
          <a:xfrm>
            <a:off x="511200" y="874800"/>
            <a:ext cx="7823160" cy="3920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5" descr=""/>
          <p:cNvPicPr/>
          <p:nvPr/>
        </p:nvPicPr>
        <p:blipFill>
          <a:blip r:embed="rId5"/>
          <a:stretch/>
        </p:blipFill>
        <p:spPr>
          <a:xfrm>
            <a:off x="495360" y="1289160"/>
            <a:ext cx="7823160" cy="3920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5" descr=""/>
          <p:cNvPicPr/>
          <p:nvPr/>
        </p:nvPicPr>
        <p:blipFill>
          <a:blip r:embed="rId6"/>
          <a:stretch/>
        </p:blipFill>
        <p:spPr>
          <a:xfrm>
            <a:off x="479520" y="1806480"/>
            <a:ext cx="7823160" cy="3938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5" descr=""/>
          <p:cNvPicPr/>
          <p:nvPr/>
        </p:nvPicPr>
        <p:blipFill>
          <a:blip r:embed="rId7"/>
          <a:stretch/>
        </p:blipFill>
        <p:spPr>
          <a:xfrm>
            <a:off x="461880" y="2220840"/>
            <a:ext cx="7823160" cy="3920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5" descr=""/>
          <p:cNvPicPr/>
          <p:nvPr/>
        </p:nvPicPr>
        <p:blipFill>
          <a:blip r:embed="rId8"/>
          <a:stretch/>
        </p:blipFill>
        <p:spPr>
          <a:xfrm>
            <a:off x="446040" y="2643120"/>
            <a:ext cx="78231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2:42:50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